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4B37-3AB1-445F-AEA0-D9268D15C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FAD1-5127-4795-9B4E-3BC22B18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58C1-E7D9-4BC5-A00C-C3CA08150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18EE-850A-47A9-8B37-14128D259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97A8-DC9B-4B83-B5DB-BEAE8F7F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8878-ECFE-47AE-B4FB-6363733D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4F89-7E45-4005-8A3B-C7CE8ABB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3D6B-DE14-48D3-91F1-759C17A5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7168-CD83-4040-BB58-FB20C999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C106-9D20-40F2-B0BB-666FE42D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9CF3-360E-4E2A-AD12-3617F335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BB21-C5B9-493F-8520-B7B521D4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1D14-494D-4AA7-89F2-9B9BB07B7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>
            <a:lum brigh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2057400"/>
            <a:ext cx="830592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3333">
                    <a:alpha val="50000"/>
                  </a:srgbClr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ntroduction to Pharmacology</a:t>
            </a:r>
            <a:endParaRPr b="0" lang="en-US" sz="2400" spc="1" strike="noStrike">
              <a:ln w="0">
                <a:noFill/>
              </a:ln>
              <a:solidFill>
                <a:srgbClr val="333333">
                  <a:alpha val="50000"/>
                </a:srgbClr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stol Plymout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ctical Nurse Program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4343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s. Janet L. Terra, R.N., 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ectio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ur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 flipH="1">
            <a:off x="4724280" y="2590920"/>
            <a:ext cx="4191120" cy="3047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ions for use and warnings against unsafe use, including recommendations for dosage levels and 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Federal Food, Drug and Cosmetic Act – 1938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76920" y="2819520"/>
            <a:ext cx="36576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Recommended d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Not to exceed 8 tablets in 24 hours, or as directed by a do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tatement on all new drugs not yet approved for interstate comme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Federal Food, Drug and Cosmetic Act – 1938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724280" y="2590920"/>
            <a:ext cx="4191120" cy="3047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76920" y="2971800"/>
            <a:ext cx="3657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Caution: New Drug – Limited by Federal Law to Investigational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Other Important Acts and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2025720"/>
            <a:ext cx="8610480" cy="37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952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urham – Humphrey Amendmen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Prescription vs OTC Dru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96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Kefauver – Harris Amendmen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ruth in Adverti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Laws Specific to Narco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2025720"/>
            <a:ext cx="8610480" cy="48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914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Harrison Narcotic Ac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First Narcotic Control 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97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Comprehensive Drug Abus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vention and Control Ac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ontrolled Substances 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1970 Controlled Substances Ac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 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04920" y="2324160"/>
            <a:ext cx="3886200" cy="4076640"/>
            <a:chOff x="304920" y="2324160"/>
            <a:chExt cx="3886200" cy="4076640"/>
          </a:xfrm>
        </p:grpSpPr>
        <p:sp>
          <p:nvSpPr>
            <p:cNvPr id="89" name="Lock"/>
            <p:cNvSpPr/>
            <p:nvPr/>
          </p:nvSpPr>
          <p:spPr>
            <a:xfrm>
              <a:off x="304920" y="2324160"/>
              <a:ext cx="1912680" cy="2400480"/>
            </a:xfrm>
            <a:prstGeom prst="pie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ock"/>
            <p:cNvSpPr/>
            <p:nvPr/>
          </p:nvSpPr>
          <p:spPr>
            <a:xfrm>
              <a:off x="2278080" y="4000680"/>
              <a:ext cx="1913040" cy="2400120"/>
            </a:xfrm>
            <a:prstGeom prst="pie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ift Narcotic Cou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1970 Controlled Substances Ac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33520" y="1971360"/>
            <a:ext cx="3741120" cy="4658040"/>
            <a:chOff x="533520" y="1971360"/>
            <a:chExt cx="3741120" cy="4658040"/>
          </a:xfrm>
        </p:grpSpPr>
        <p:grpSp>
          <p:nvGrpSpPr>
            <p:cNvPr id="94" name=""/>
            <p:cNvGrpSpPr/>
            <p:nvPr/>
          </p:nvGrpSpPr>
          <p:grpSpPr>
            <a:xfrm>
              <a:off x="960840" y="1971360"/>
              <a:ext cx="1583280" cy="1315440"/>
              <a:chOff x="960840" y="1971360"/>
              <a:chExt cx="1583280" cy="1315440"/>
            </a:xfrm>
          </p:grpSpPr>
          <p:grpSp>
            <p:nvGrpSpPr>
              <p:cNvPr id="95" name=""/>
              <p:cNvGrpSpPr/>
              <p:nvPr/>
            </p:nvGrpSpPr>
            <p:grpSpPr>
              <a:xfrm>
                <a:off x="960840" y="1971360"/>
                <a:ext cx="1583280" cy="1315440"/>
                <a:chOff x="960840" y="1971360"/>
                <a:chExt cx="1583280" cy="1315440"/>
              </a:xfrm>
            </p:grpSpPr>
            <p:sp>
              <p:nvSpPr>
                <p:cNvPr id="96" name=""/>
                <p:cNvSpPr/>
                <p:nvPr/>
              </p:nvSpPr>
              <p:spPr>
                <a:xfrm rot="20688000">
                  <a:off x="1066320" y="2133720"/>
                  <a:ext cx="1371600" cy="99036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cc66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V="1">
                  <a:off x="1074240" y="2138040"/>
                  <a:ext cx="1176480" cy="319680"/>
                </a:xfrm>
                <a:prstGeom prst="line">
                  <a:avLst/>
                </a:prstGeom>
                <a:ln w="2844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" name=""/>
              <p:cNvSpPr/>
              <p:nvPr/>
            </p:nvSpPr>
            <p:spPr>
              <a:xfrm rot="20921400">
                <a:off x="1752480" y="2514240"/>
                <a:ext cx="304920" cy="45972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649440" y="3101760"/>
              <a:ext cx="1596960" cy="1339920"/>
              <a:chOff x="649440" y="3101760"/>
              <a:chExt cx="1596960" cy="13399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649440" y="3101760"/>
                <a:ext cx="1596960" cy="1339920"/>
                <a:chOff x="649440" y="3101760"/>
                <a:chExt cx="1596960" cy="1339920"/>
              </a:xfrm>
            </p:grpSpPr>
            <p:sp>
              <p:nvSpPr>
                <p:cNvPr id="101" name=""/>
                <p:cNvSpPr/>
                <p:nvPr/>
              </p:nvSpPr>
              <p:spPr>
                <a:xfrm rot="993000">
                  <a:off x="762120" y="3276360"/>
                  <a:ext cx="1371600" cy="99036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cc66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960840" y="3269520"/>
                  <a:ext cx="1168920" cy="347400"/>
                </a:xfrm>
                <a:prstGeom prst="line">
                  <a:avLst/>
                </a:prstGeom>
                <a:ln w="2844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" name=""/>
              <p:cNvSpPr/>
              <p:nvPr/>
            </p:nvSpPr>
            <p:spPr>
              <a:xfrm rot="1401000">
                <a:off x="1294560" y="3657240"/>
                <a:ext cx="304920" cy="45972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1212840" y="4127040"/>
              <a:ext cx="1689480" cy="1575360"/>
              <a:chOff x="1212840" y="4127040"/>
              <a:chExt cx="1689480" cy="157536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1212840" y="4127040"/>
                <a:ext cx="1689480" cy="1575360"/>
                <a:chOff x="1212840" y="4127040"/>
                <a:chExt cx="1689480" cy="1575360"/>
              </a:xfrm>
            </p:grpSpPr>
            <p:sp>
              <p:nvSpPr>
                <p:cNvPr id="106" name=""/>
                <p:cNvSpPr/>
                <p:nvPr/>
              </p:nvSpPr>
              <p:spPr>
                <a:xfrm rot="19632600">
                  <a:off x="1371600" y="4419360"/>
                  <a:ext cx="1371600" cy="99036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cc66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V="1">
                  <a:off x="1359000" y="4296600"/>
                  <a:ext cx="1024920" cy="660240"/>
                </a:xfrm>
                <a:prstGeom prst="line">
                  <a:avLst/>
                </a:prstGeom>
                <a:ln w="2844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 rot="19725600">
                <a:off x="1981440" y="4799880"/>
                <a:ext cx="304920" cy="45972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33520" y="5638680"/>
              <a:ext cx="1371600" cy="990720"/>
              <a:chOff x="533520" y="5638680"/>
              <a:chExt cx="1371600" cy="99072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533520" y="5638680"/>
                <a:ext cx="1371600" cy="990720"/>
                <a:chOff x="533520" y="5638680"/>
                <a:chExt cx="1371600" cy="99072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533520" y="5638680"/>
                  <a:ext cx="137160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cc66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09480" y="5791320"/>
                  <a:ext cx="1219320" cy="0"/>
                </a:xfrm>
                <a:prstGeom prst="line">
                  <a:avLst/>
                </a:prstGeom>
                <a:ln w="2844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" name=""/>
              <p:cNvSpPr/>
              <p:nvPr/>
            </p:nvSpPr>
            <p:spPr>
              <a:xfrm>
                <a:off x="1066680" y="6019920"/>
                <a:ext cx="304920" cy="45972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2583720" y="4713480"/>
              <a:ext cx="1690920" cy="1622520"/>
              <a:chOff x="2583720" y="4713480"/>
              <a:chExt cx="1690920" cy="162252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2583720" y="4713480"/>
                <a:ext cx="1690920" cy="1622520"/>
                <a:chOff x="2583720" y="4713480"/>
                <a:chExt cx="1690920" cy="1622520"/>
              </a:xfrm>
            </p:grpSpPr>
            <p:sp>
              <p:nvSpPr>
                <p:cNvPr id="116" name=""/>
                <p:cNvSpPr/>
                <p:nvPr/>
              </p:nvSpPr>
              <p:spPr>
                <a:xfrm rot="8538000">
                  <a:off x="2743200" y="5029200"/>
                  <a:ext cx="137160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cc66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H="1">
                  <a:off x="3156480" y="5422680"/>
                  <a:ext cx="964800" cy="745920"/>
                </a:xfrm>
                <a:prstGeom prst="line">
                  <a:avLst/>
                </a:prstGeom>
                <a:ln w="2844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" name=""/>
              <p:cNvSpPr/>
              <p:nvPr/>
            </p:nvSpPr>
            <p:spPr>
              <a:xfrm flipV="1" rot="8313000">
                <a:off x="3204360" y="5204160"/>
                <a:ext cx="304560" cy="45972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2516040" y="2786040"/>
              <a:ext cx="1673640" cy="1666800"/>
              <a:chOff x="2516040" y="2786040"/>
              <a:chExt cx="1673640" cy="1666800"/>
            </a:xfrm>
          </p:grpSpPr>
          <p:grpSp>
            <p:nvGrpSpPr>
              <p:cNvPr id="120" name=""/>
              <p:cNvGrpSpPr/>
              <p:nvPr/>
            </p:nvGrpSpPr>
            <p:grpSpPr>
              <a:xfrm>
                <a:off x="2516040" y="2786040"/>
                <a:ext cx="1673640" cy="1666800"/>
                <a:chOff x="2516040" y="2786040"/>
                <a:chExt cx="1673640" cy="1666800"/>
              </a:xfrm>
            </p:grpSpPr>
            <p:sp>
              <p:nvSpPr>
                <p:cNvPr id="121" name=""/>
                <p:cNvSpPr/>
                <p:nvPr/>
              </p:nvSpPr>
              <p:spPr>
                <a:xfrm rot="8144400">
                  <a:off x="2666880" y="3124080"/>
                  <a:ext cx="137160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cc66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flipH="1">
                  <a:off x="3155400" y="3439440"/>
                  <a:ext cx="873360" cy="850680"/>
                </a:xfrm>
                <a:prstGeom prst="line">
                  <a:avLst/>
                </a:prstGeom>
                <a:ln w="2844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" name=""/>
              <p:cNvSpPr/>
              <p:nvPr/>
            </p:nvSpPr>
            <p:spPr>
              <a:xfrm rot="19267200">
                <a:off x="3113280" y="3307680"/>
                <a:ext cx="304920" cy="45972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Limits on Prescri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1970 Controlled Substances Ac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6320" y="1295280"/>
            <a:ext cx="3809880" cy="5410440"/>
            <a:chOff x="76320" y="1295280"/>
            <a:chExt cx="3809880" cy="5410440"/>
          </a:xfrm>
        </p:grpSpPr>
        <p:sp>
          <p:nvSpPr>
            <p:cNvPr id="127" name=""/>
            <p:cNvSpPr/>
            <p:nvPr/>
          </p:nvSpPr>
          <p:spPr>
            <a:xfrm>
              <a:off x="76320" y="1295280"/>
              <a:ext cx="3809880" cy="5410440"/>
            </a:xfrm>
            <a:prstGeom prst="verticalScrol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6080" y="2270160"/>
              <a:ext cx="2683080" cy="396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Lucida Handwriting"/>
                </a:rPr>
                <a:t>6/23/02  Meperidine 50 mg po q4h prn back pai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Lucida Handwriting"/>
                </a:rPr>
                <a:t>Les Lurnett, M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Lucida Handwriting"/>
                </a:rPr>
                <a:t>6/26/02  Renew Meperidine 50 mg po q4h prn back pai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Lucida Handwriting"/>
                </a:rPr>
                <a:t>Les Lurnett, M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Drug Nomencl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95280" y="28195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an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05320" y="283356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d to alleviate anxi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37339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ant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05320" y="374796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d to prevent ulc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50292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oc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05320" y="504360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 lowering ag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5943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ol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05320" y="595800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ti - depress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280" y="1295280"/>
            <a:ext cx="8763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Drugs may have similar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Don’t be conf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Drug Nomenclatur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76320" y="1969920"/>
            <a:ext cx="3352680" cy="4735440"/>
            <a:chOff x="76320" y="1969920"/>
            <a:chExt cx="3352680" cy="4735440"/>
          </a:xfrm>
        </p:grpSpPr>
        <p:grpSp>
          <p:nvGrpSpPr>
            <p:cNvPr id="141" name=""/>
            <p:cNvGrpSpPr/>
            <p:nvPr/>
          </p:nvGrpSpPr>
          <p:grpSpPr>
            <a:xfrm>
              <a:off x="1562400" y="5447880"/>
              <a:ext cx="1193760" cy="1257480"/>
              <a:chOff x="1562400" y="5447880"/>
              <a:chExt cx="1193760" cy="1257480"/>
            </a:xfrm>
          </p:grpSpPr>
          <p:sp>
            <p:nvSpPr>
              <p:cNvPr id="142" name=""/>
              <p:cNvSpPr/>
              <p:nvPr/>
            </p:nvSpPr>
            <p:spPr>
              <a:xfrm rot="16200000">
                <a:off x="1530360" y="5479560"/>
                <a:ext cx="1257480" cy="1193760"/>
              </a:xfrm>
              <a:prstGeom prst="hexagon">
                <a:avLst>
                  <a:gd name="adj" fmla="val 26334"/>
                  <a:gd name="vf" fmla="val 115470"/>
                </a:avLst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661840" y="5793840"/>
                <a:ext cx="0" cy="56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1683000" y="5547240"/>
                <a:ext cx="511920" cy="240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 flipV="1">
                <a:off x="1621080" y="6361560"/>
                <a:ext cx="509400" cy="24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2133720" y="1969920"/>
              <a:ext cx="1219320" cy="1158840"/>
              <a:chOff x="2133720" y="1969920"/>
              <a:chExt cx="1219320" cy="1158840"/>
            </a:xfrm>
          </p:grpSpPr>
          <p:sp>
            <p:nvSpPr>
              <p:cNvPr id="147" name=""/>
              <p:cNvSpPr/>
              <p:nvPr/>
            </p:nvSpPr>
            <p:spPr>
              <a:xfrm>
                <a:off x="2133720" y="1969920"/>
                <a:ext cx="1219320" cy="1158840"/>
              </a:xfrm>
              <a:prstGeom prst="pentagon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2252520" y="2105280"/>
                <a:ext cx="433080" cy="336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3084120" y="2532600"/>
                <a:ext cx="170640" cy="52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787680" y="3341160"/>
              <a:ext cx="1193760" cy="1257480"/>
              <a:chOff x="787680" y="3341160"/>
              <a:chExt cx="1193760" cy="1257480"/>
            </a:xfrm>
          </p:grpSpPr>
          <p:sp>
            <p:nvSpPr>
              <p:cNvPr id="151" name=""/>
              <p:cNvSpPr/>
              <p:nvPr/>
            </p:nvSpPr>
            <p:spPr>
              <a:xfrm rot="16200000">
                <a:off x="755640" y="3372840"/>
                <a:ext cx="1257480" cy="1193760"/>
              </a:xfrm>
              <a:prstGeom prst="hexagon">
                <a:avLst>
                  <a:gd name="adj" fmla="val 26334"/>
                  <a:gd name="vf" fmla="val 115470"/>
                </a:avLst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887120" y="3687120"/>
                <a:ext cx="0" cy="56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908280" y="3440520"/>
                <a:ext cx="511920" cy="240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 flipV="1">
                <a:off x="846360" y="4254840"/>
                <a:ext cx="509400" cy="24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1295640" y="219852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320" y="4408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533520" y="4331880"/>
              <a:ext cx="2286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05120" y="2427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743200" y="4255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24240" y="27320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1600" y="311256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2152800" y="5181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3" name=""/>
            <p:cNvCxnSpPr>
              <a:stCxn id="151" idx="1"/>
              <a:endCxn id="162" idx="0"/>
            </p:cNvCxnSpPr>
            <p:nvPr/>
          </p:nvCxnSpPr>
          <p:spPr>
            <a:xfrm>
              <a:off x="1382400" y="4626000"/>
              <a:ext cx="770760" cy="5367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164" name=""/>
            <p:cNvSpPr/>
            <p:nvPr/>
          </p:nvSpPr>
          <p:spPr>
            <a:xfrm flipV="1">
              <a:off x="2133720" y="4636800"/>
              <a:ext cx="6858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2144520" y="4622760"/>
              <a:ext cx="511920" cy="409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971800" y="3722400"/>
              <a:ext cx="4572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2971800" y="3112920"/>
              <a:ext cx="457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959640" y="1981080"/>
            <a:ext cx="50558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emical Na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-Chloro-1-methyl-6-phenyl-4H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-triazolo [4,3-a] [1,4] benzodiazep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32080" y="3581280"/>
            <a:ext cx="290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fficial Na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prazolam, U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338720" y="493704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rade (Brand) Na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anax 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6154560" cy="6476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848200" y="152280"/>
            <a:ext cx="3102120" cy="403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31" y="22449"/>
                </a:moveTo>
                <a:lnTo>
                  <a:pt x="-531" y="611"/>
                </a:lnTo>
              </a:path>
            </a:pathLst>
          </a:cu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iends, the ingredients in this bottle will cure all that ails you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Drug Stand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228600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596960"/>
            <a:ext cx="8610480" cy="48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urit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Strength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Safety and Toxicit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1906 - Federal Food, Drug and Cosmetic 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2025720"/>
            <a:ext cx="8610480" cy="42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t Legal Standards for Dr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ited States Pharmacopoe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USP [NF]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flipH="1">
            <a:off x="4724280" y="2590920"/>
            <a:ext cx="4191120" cy="3047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Federal Food, Drug and Cosmetic Act – 1938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tatement accurately describing the package’s cont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76920" y="335268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Each tablet contains acetominopen 325 m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 flipH="1">
            <a:off x="4724280" y="2590920"/>
            <a:ext cx="4191120" cy="3047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sual names of the drug(s), both official and non – offi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Federal Food, Drug and Cosmetic Act – 1938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76920" y="3352680"/>
            <a:ext cx="3657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Tylenol 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acetominophen, U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H="1">
            <a:off x="4724280" y="2590920"/>
            <a:ext cx="4191120" cy="3047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cation of the presence, quantity, and proportion of other dr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Federal Food, Drug and Cosmetic Act – 1938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3352680"/>
            <a:ext cx="3657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Active ingred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Inactive ingred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 flipH="1">
            <a:off x="4724280" y="2590920"/>
            <a:ext cx="4191120" cy="3047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arning of habit – forming drugs in the product and their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Federal Food, Drug and Cosmetic Act – 1938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76920" y="3352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War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 flipH="1">
            <a:off x="4724280" y="2590920"/>
            <a:ext cx="4191120" cy="3047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ames of the manufacturer, packager and distribu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Federal Food, Drug and Cosmetic Act – 1938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2895480"/>
            <a:ext cx="36576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Distribut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McNeil Consumer Health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Fort Washington, 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7T23:16:51Z</dcterms:created>
  <dc:creator>Janet Terra</dc:creator>
  <dc:description/>
  <dc:language>en-US</dc:language>
  <cp:lastModifiedBy>User</cp:lastModifiedBy>
  <dcterms:modified xsi:type="dcterms:W3CDTF">2007-09-05T17:58:41Z</dcterms:modified>
  <cp:revision>19</cp:revision>
  <dc:subject/>
  <dc:title>Federal Food, Drug and Cosmetic Act – 1938</dc:title>
</cp:coreProperties>
</file>